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1F47-5E22-4DF9-9FFE-894562B09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76A7-3F11-4B7C-B2B9-3A6929A5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91E8-0193-4A4A-AC32-1F6703766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BBBD-7437-40D4-BF69-93C5817D8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15BF-AF47-4CCB-8782-D66D0B57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476B-89BC-4272-A0B9-05893695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AC02-BAC6-46CA-B42A-25AC470E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44E4-E651-4A2E-A899-73280ACC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37E1-8904-4ED3-AFC0-7E32FB8C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0FBB-F756-49E9-84F7-34591D79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CDCC-D4EC-4401-B38E-79365BEF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0ADF-6102-4CF1-8B2B-3C6B14A2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885D-76C9-4E7C-8326-9FD4C1A97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media.thenewstribune.com/smedia/2010/03/26/00/ope0326_egoogle_g.standalone.prod_affiliate.5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hscurrentaffairs.wikispaces.com/10+Google+vs.+China" TargetMode="External"/><Relationship Id="rId3" Type="http://schemas.openxmlformats.org/officeDocument/2006/relationships/hyperlink" Target="http://whscurrentaffairs.wikispaces.com/10+Google+vs.+China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0"/>
            <a:ext cx="4419720" cy="3160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1523880" y="1676520"/>
            <a:ext cx="2667240" cy="2552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s. </a:t>
            </a: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Chi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yle Pearson &amp; Alyssa Cur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38280" y="0"/>
            <a:ext cx="4114800" cy="1752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January of this year, Google announced that they are not willing to censor searches in China anymore and may back out of the coun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na’s internet is protected by “The Great Firewall of China” which block tons of websites and search res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when you search Google for “"Tiananmen Square" in China, you get information about one of the largest public squares in Beij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rest of the world, you get the infamous picture of a brave student standing in front of a tank in a 1989 pro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ource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www.perrymarshall.com/google-vs-china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838080"/>
            <a:ext cx="9144000" cy="7696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 Black"/>
              </a:rPr>
              <a:t>Chi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na reacted to Google’s action with 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gle has violated the written promise it made on entering the Chinese market," said a statement on the noon news. "It is totally wrong in halting the filtering of its search provider and in making    aspersions and accusations                     toward China about hacking                               attacks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effected cities such as Beijing, Hong Kong, Shanghai, and Nanning. (second m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npr.org/templates/story/story.php?storyId=12504896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 Map (China in blac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60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p of China (major cities effect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  could buy products whose companies support the flow of free information in Ch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s should stay informed of China’s and Google’s information and internet polic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5:21:49Z</dcterms:created>
  <dc:creator>ws11058</dc:creator>
  <dc:description/>
  <dc:language>en-US</dc:language>
  <cp:lastModifiedBy>ws11058</cp:lastModifiedBy>
  <dcterms:modified xsi:type="dcterms:W3CDTF">2010-05-20T13:24:45Z</dcterms:modified>
  <cp:revision>8</cp:revision>
  <dc:subject/>
  <dc:title>Google vs. China </dc:title>
</cp:coreProperties>
</file>